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BB013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37BEE-8ACD-4E9B-8617-3DEAAAA9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D201-DF73-4E32-809D-B95261B5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8947-C13A-44B3-A044-4B2CEAF2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19300-B59B-48F4-8129-23CFFBE3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1BEB-0970-46AB-8DE7-DE37EDE8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6D66-388B-4076-8A7B-B6AA1F84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E640-B133-454B-9A6B-55298092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420D-384C-4D8B-B926-DF5B8220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9E1D-5410-4B46-9714-EF32F824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0250-D13C-4BD2-84A4-0E64F004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16D4-A86E-4B93-8EC6-54489251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77F0-631F-466A-A8EF-EB375FF6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EF49-A794-4A6A-9B52-60577540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512D-1D31-405C-93A2-F80A3B89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2057-BEDB-4094-AAE4-CEF8E726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5998-C45B-4576-B367-AAF26927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3CD4-35BA-486E-B3B5-682C72F9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8476-458D-4179-AAAC-36B93211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DBA11-8A1B-421D-8E06-645C8B18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776E-AF0C-40D3-9C66-0832FBD3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390E-3FEB-48DB-ABCA-B5E5DCC9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E526-BB22-42C0-8A87-CC070A2B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DB4E2-CC8C-49AF-8C42-D5886A11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E20D-789C-4D7D-B652-3D0FD44E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6a6d0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6a6d0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e6e8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6a6d0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6a6d0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6a6d0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9012-27CA-4A59-A1A3-537988D09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171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6a6d0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6a6d0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b7b9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e6e8a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57592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6a6d0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6a6d0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6a6d0"/>
                </a:gs>
                <a:gs pos="100000">
                  <a:srgbClr val="cc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2F9B-3F06-4C84-BD41-8C26900B3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200e4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200e4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BB013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BB013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BB013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BB013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BB013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BB013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171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55640" y="1267920"/>
            <a:ext cx="3809880" cy="1708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cccff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0400" spc="-1" strike="noStrike">
                <a:solidFill>
                  <a:srgbClr val="808080"/>
                </a:solidFill>
                <a:latin typeface="Angsana New"/>
                <a:cs typeface="KodchiangUPC"/>
              </a:rPr>
              <a:t>บทที่</a:t>
            </a:r>
            <a:r>
              <a:rPr b="1" i="1" lang="en-US" sz="10400" spc="-1" strike="noStrike">
                <a:solidFill>
                  <a:srgbClr val="808080"/>
                </a:solidFill>
                <a:latin typeface="Angsana New"/>
                <a:ea typeface="KodchiangUPC"/>
              </a:rPr>
              <a:t>10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547280" y="3573360"/>
            <a:ext cx="6480360" cy="1727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cccff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200" spc="-1" strike="noStrike">
                <a:solidFill>
                  <a:srgbClr val="7200e4"/>
                </a:solidFill>
                <a:latin typeface="Angsana New"/>
                <a:cs typeface="LilyUPC"/>
              </a:rPr>
              <a:t>วงจรต่อขนาน </a:t>
            </a:r>
            <a:r>
              <a:rPr b="1" i="1" lang="en-US" sz="6200" spc="-1" strike="noStrike">
                <a:solidFill>
                  <a:srgbClr val="7200e4"/>
                </a:solidFill>
                <a:latin typeface="Angsana New"/>
                <a:ea typeface="LilyUPC"/>
              </a:rPr>
              <a:t>RLC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0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09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2590560" y="5464080"/>
            <a:ext cx="655308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266760"/>
                <a:tab algn="l" pos="161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000000"/>
                </a:solidFill>
                <a:latin typeface="Arial"/>
                <a:ea typeface="LilyUPC"/>
              </a:rPr>
              <a:t>	</a:t>
            </a:r>
            <a:r>
              <a:rPr b="1" i="1" lang="th-TH" sz="3200" spc="-1" strike="noStrike">
                <a:solidFill>
                  <a:srgbClr val="000000"/>
                </a:solidFill>
                <a:latin typeface="Arial"/>
                <a:cs typeface="LilyUPC"/>
              </a:rPr>
              <a:t>รูป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วงจรขนาน </a:t>
            </a:r>
            <a:r>
              <a:rPr b="1" i="1" lang="en-US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RLC 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และเฟสเซอร์ไดอะแกรม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	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หักล้างของ </a:t>
            </a:r>
            <a:r>
              <a:rPr b="1" i="1" lang="en-US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I 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 </a:t>
            </a:r>
            <a:r>
              <a:rPr b="1" i="1" lang="th-TH" sz="3200" spc="-1" strike="noStrike">
                <a:solidFill>
                  <a:srgbClr val="000000"/>
                </a:solidFill>
                <a:latin typeface="Angsana New"/>
                <a:cs typeface="LilyUPC"/>
              </a:rPr>
              <a:t>และ</a:t>
            </a:r>
            <a:r>
              <a:rPr b="1" i="1" lang="en-US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ngsana New"/>
                <a:ea typeface="LilyUPC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71640" y="0"/>
            <a:ext cx="5886360" cy="39888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วงจรต่อขนาด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LC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วงจรขนาน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1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2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2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7200e4"/>
                </a:solidFill>
                <a:latin typeface="Angsana New"/>
                <a:cs typeface="LilyUPC"/>
              </a:rPr>
              <a:t>วงจรขนาน </a:t>
            </a:r>
            <a:r>
              <a:rPr b="1" i="1" lang="en-US" sz="4800" spc="-1" strike="noStrike">
                <a:solidFill>
                  <a:srgbClr val="7200e4"/>
                </a:solidFill>
                <a:latin typeface="Angsana New"/>
                <a:ea typeface="LilyUPC"/>
              </a:rPr>
              <a:t>RLC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43040" y="62373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276160" y="6237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333320" y="1989000"/>
            <a:ext cx="11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ก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วงจ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60960" y="4437000"/>
            <a:ext cx="282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ข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กระแส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I 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มากกว่า 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367040" y="45813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234280" y="458136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796920" y="4437000"/>
            <a:ext cx="296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ค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กระแส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I 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มากกว่า 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10280" y="458136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71400" y="45813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684360" y="1125360"/>
            <a:ext cx="3598560" cy="179892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sp>
        <p:nvSpPr>
          <p:cNvPr id="534" name=""/>
          <p:cNvSpPr/>
          <p:nvPr/>
        </p:nvSpPr>
        <p:spPr>
          <a:xfrm flipH="1" flipV="1" rot="5400000">
            <a:off x="2313720" y="1295280"/>
            <a:ext cx="321840" cy="5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59" y="632"/>
                </a:moveTo>
                <a:arcTo wR="10800" hR="10800" stAng="-6581982" swAng="6703849"/>
                <a:lnTo>
                  <a:pt x="10800" y="10800"/>
                </a:lnTo>
                <a:close/>
              </a:path>
              <a:path fill="none" w="21600" h="21600">
                <a:moveTo>
                  <a:pt x="7159" y="632"/>
                </a:moveTo>
                <a:arcTo wR="10800" hR="10800" stAng="-6581982" swAng="6703849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708360" y="141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843280" y="1413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6156360" y="1773360"/>
            <a:ext cx="2681280" cy="237636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>
            <a:off x="1619280" y="3068640"/>
            <a:ext cx="2593800" cy="223200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sp>
        <p:nvSpPr>
          <p:cNvPr id="539" name=""/>
          <p:cNvSpPr/>
          <p:nvPr/>
        </p:nvSpPr>
        <p:spPr>
          <a:xfrm>
            <a:off x="1873800" y="31417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967040" y="5097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ngsana New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092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1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916360" y="2565360"/>
                <a:ext cx="2033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2916360" y="3645000"/>
                <a:ext cx="2033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5380200" y="2492280"/>
                <a:ext cx="19825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เมื่อ  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5364000" y="3573360"/>
                <a:ext cx="1982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เมื่อ  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9" name=""/>
          <p:cNvSpPr/>
          <p:nvPr/>
        </p:nvSpPr>
        <p:spPr>
          <a:xfrm>
            <a:off x="971640" y="0"/>
            <a:ext cx="5886360" cy="39888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วงจรต่อขนาด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LC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วงจรขนาน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092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2268360" y="2133720"/>
            <a:ext cx="60501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650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กรณี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I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มากกว่า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650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650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650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กรณี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I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มากกว่า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1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195280" y="1052640"/>
            <a:ext cx="5832360" cy="86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cc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7200e4"/>
                </a:solidFill>
                <a:latin typeface="Angsana New"/>
                <a:cs typeface="LilyUPC"/>
              </a:rPr>
              <a:t>ค่ากระแสในวงจรขนาน </a:t>
            </a:r>
            <a:r>
              <a:rPr b="1" i="1" lang="en-US" sz="4800" spc="-1" strike="noStrike">
                <a:solidFill>
                  <a:srgbClr val="7200e4"/>
                </a:solidFill>
                <a:latin typeface="Angsana New"/>
                <a:ea typeface="LilyUPC"/>
              </a:rPr>
              <a:t>RL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68920" y="24210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341600" y="23493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140360" y="2781360"/>
                <a:ext cx="26017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I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4337280" y="414972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044880" y="41497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140360" y="4797360"/>
                <a:ext cx="26017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62" name=""/>
          <p:cNvSpPr/>
          <p:nvPr/>
        </p:nvSpPr>
        <p:spPr>
          <a:xfrm>
            <a:off x="971640" y="0"/>
            <a:ext cx="5886360" cy="39888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วงจรต่อขนาด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LC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ค่ากระแสในวงจรขนาน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0920" cy="685800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1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268360" y="836280"/>
            <a:ext cx="65008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cc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7200e4"/>
                </a:solidFill>
                <a:latin typeface="Angsana New"/>
                <a:cs typeface="LilyUPC"/>
              </a:rPr>
              <a:t>อิมพีแดนซ์และแอดมิตแตนซ์</a:t>
            </a:r>
            <a:br>
              <a:rPr sz="4000"/>
            </a:br>
            <a:r>
              <a:rPr b="1" i="1" lang="th-TH" sz="4000" spc="-1" strike="noStrike">
                <a:solidFill>
                  <a:srgbClr val="7200e4"/>
                </a:solidFill>
                <a:latin typeface="Angsana New"/>
                <a:cs typeface="LilyUPC"/>
              </a:rPr>
              <a:t>ของวงจรขนาน </a:t>
            </a:r>
            <a:r>
              <a:rPr b="1" i="1" lang="en-US" sz="4000" spc="-1" strike="noStrike">
                <a:solidFill>
                  <a:srgbClr val="7200e4"/>
                </a:solidFill>
                <a:latin typeface="Angsana New"/>
                <a:ea typeface="LilyUPC"/>
              </a:rPr>
              <a:t>RL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411280" y="2060640"/>
                <a:ext cx="194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กรณี  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700360" y="2924280"/>
                <a:ext cx="403236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3203640" y="4149720"/>
                <a:ext cx="47530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3348000" y="5084640"/>
                <a:ext cx="31672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2" name=""/>
          <p:cNvSpPr/>
          <p:nvPr/>
        </p:nvSpPr>
        <p:spPr>
          <a:xfrm>
            <a:off x="971640" y="0"/>
            <a:ext cx="5886360" cy="7038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วงจรต่อขนาด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LC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อิมพีแดนซ์และแอดมิตแตนซ์ของวงจรขนาน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0920" cy="68580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971640" y="0"/>
            <a:ext cx="5886360" cy="7038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วงจรต่อขนาด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LC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อิมพีแดนซ์และแอดมิตแตนซ์ของวงจรขนาน 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1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556000" y="1268280"/>
                <a:ext cx="194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กรณี  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627280" y="2205000"/>
                <a:ext cx="40323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059280" y="3500280"/>
                <a:ext cx="50101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 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3059280" y="4221000"/>
                <a:ext cx="2286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09:36:20Z</dcterms:created>
  <dc:creator>ADMIN</dc:creator>
  <dc:description/>
  <dc:language>en-US</dc:language>
  <cp:lastModifiedBy>พี่อุอุ๊</cp:lastModifiedBy>
  <dcterms:modified xsi:type="dcterms:W3CDTF">2005-11-14T03:21:16Z</dcterms:modified>
  <cp:revision>39</cp:revision>
  <dc:subject/>
  <dc:title>งานนำเสนอ PowerPoint</dc:title>
</cp:coreProperties>
</file>